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A86D3-0DF6-4AC7-A146-5200D31CF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3B9E6-8AEE-4B92-8CB9-BEBEE9646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3F047-41BA-487E-B0C4-9943C5069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FF05F-212A-4CD3-A90B-A1597520F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024FC6-1B76-4C0C-954F-C8D71D08B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E36FB5-CC51-4F7D-B09E-9C3C50104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2B1025-76D9-43CE-BCAF-9E44CE7CE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E0429C-366C-489E-9845-0F5ED1E1A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6CDCD5-CC42-4AE1-96AC-19FC531DC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1179A7-ECA9-411C-9F56-7C07C1C5B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5A27BF-9578-4FAC-9A53-D85DF5610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F4F8A-73B9-4D57-86D4-6E256CD6C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752471-8C73-45DE-BF3F-A2008842D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CEA905-E051-46E1-8C92-3017F153F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44A1D1-3C57-4716-BE0A-CA27A9E08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4F5CD6-4E6A-4649-BB8D-A933C192A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46F677-A391-4F44-B9E5-8F9207EB7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8C3C8-9F26-4709-9648-DCDD50374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9C79B-D8CC-4D7F-8473-715608564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E47F6-C4F6-44AE-9691-0BA3BBF7F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EAC5A-2448-4DF6-9B43-7380DA502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B184E-DD5E-46EC-B66A-AE7CA2857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7DD6A-79D8-4645-8BAB-6931884AA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FABD9-82D3-4F09-A6FA-907C4F636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prstGeom prst="pie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prstGeom prst="pie">
              <a:avLst/>
            </a:pr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prstGeom prst="pie">
            <a:avLst/>
          </a:pr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prstGeom prst="pie">
              <a:avLst/>
            </a:pr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prstGeom prst="pie">
              <a:avLst/>
            </a:pr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0439C-17C8-4481-B20E-6DDF15004B53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prstGeom prst="pie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prstGeom prst="pie">
              <a:avLst/>
            </a:pr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prstGeom prst="pie">
            <a:avLst/>
          </a:pr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prstGeom prst="pie">
              <a:avLst/>
            </a:pr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prstGeom prst="pie">
              <a:avLst/>
            </a:pr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55648-9F3A-47B6-9BB9-A16ACB3B9A65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e3e3ff"/>
                </a:solidFill>
                <a:latin typeface="Arial"/>
              </a:rPr>
              <a:t>Площадь необъятного пространства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2484360" y="5157360"/>
            <a:ext cx="6400800" cy="81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ыполнил ученик 8 класс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Назовите формулу площади квадрата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68360" y="2565000"/>
            <a:ext cx="8229600" cy="355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=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=a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=½a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Picture 5" descr="smile"/>
          <p:cNvPicPr/>
          <p:nvPr/>
        </p:nvPicPr>
        <p:blipFill>
          <a:blip r:embed="rId1"/>
          <a:stretch/>
        </p:blipFill>
        <p:spPr>
          <a:xfrm>
            <a:off x="5508720" y="2708280"/>
            <a:ext cx="3603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95280" y="907560"/>
            <a:ext cx="8291520" cy="122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Назовите формулу площади прямоугольника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781000"/>
            <a:ext cx="8229600" cy="331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=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=a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=½a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" name="Picture 5" descr="smile"/>
          <p:cNvPicPr/>
          <p:nvPr/>
        </p:nvPicPr>
        <p:blipFill>
          <a:blip r:embed="rId1"/>
          <a:stretch/>
        </p:blipFill>
        <p:spPr>
          <a:xfrm>
            <a:off x="5796000" y="3429000"/>
            <a:ext cx="504720" cy="5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980640"/>
            <a:ext cx="8229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Назовите формулу площади параллелограмма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924280"/>
            <a:ext cx="8229600" cy="31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=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=a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=½a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" name="Picture 5" descr="smile"/>
          <p:cNvPicPr/>
          <p:nvPr/>
        </p:nvPicPr>
        <p:blipFill>
          <a:blip r:embed="rId1"/>
          <a:stretch/>
        </p:blipFill>
        <p:spPr>
          <a:xfrm>
            <a:off x="5724360" y="3573360"/>
            <a:ext cx="432000" cy="4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112536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Назовите формулу площади треугольника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781000"/>
            <a:ext cx="8229600" cy="331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=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=a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=½a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" name="Picture 5" descr="smile"/>
          <p:cNvPicPr/>
          <p:nvPr/>
        </p:nvPicPr>
        <p:blipFill>
          <a:blip r:embed="rId1"/>
          <a:stretch/>
        </p:blipFill>
        <p:spPr>
          <a:xfrm>
            <a:off x="6012000" y="3933720"/>
            <a:ext cx="504720" cy="5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39640" y="206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Спасибо за внимание!!!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6600"/>
                </a:solidFill>
                <a:latin typeface="Arial"/>
              </a:rPr>
              <a:t>Содержание: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Площадь многоугольника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Площадь квадрата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Площадь прямоугольника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Площадь параллелограмма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Площадь треугольника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66"/>
                </a:solidFill>
                <a:latin typeface="Arial"/>
              </a:rPr>
              <a:t>Площадь многоугольник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нятие площади нам известно из повседневного опыта. Площадь многоугольника – это величина той плоскости, которую занимает многоугольник. За единицу измерения площадей принимают квадрат, сторона которого равна единице измерения отрезков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войства площадей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вные многоугольники имеют равные площад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Если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1=F2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, то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(F1)=S(F2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AutoShape 7"/>
          <p:cNvSpPr/>
          <p:nvPr/>
        </p:nvSpPr>
        <p:spPr>
          <a:xfrm>
            <a:off x="2916360" y="2565360"/>
            <a:ext cx="3743280" cy="1511280"/>
          </a:xfrm>
          <a:prstGeom prst="triangle">
            <a:avLst>
              <a:gd name="adj" fmla="val 50000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63416"/>
                </a:solidFill>
                <a:latin typeface="Times New Roman"/>
              </a:rPr>
              <a:t>F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AutoShape 8"/>
          <p:cNvSpPr/>
          <p:nvPr/>
        </p:nvSpPr>
        <p:spPr>
          <a:xfrm>
            <a:off x="3059280" y="4149720"/>
            <a:ext cx="3743280" cy="1511280"/>
          </a:xfrm>
          <a:prstGeom prst="triangle">
            <a:avLst>
              <a:gd name="adj" fmla="val 50000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63416"/>
                </a:solidFill>
                <a:latin typeface="Times New Roman"/>
              </a:rPr>
              <a:t>F</a:t>
            </a:r>
            <a:r>
              <a:rPr b="1" lang="ru-RU" sz="2400" spc="-1" strike="noStrike">
                <a:solidFill>
                  <a:srgbClr val="463416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68360" y="549000"/>
            <a:ext cx="8229600" cy="55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войства площадей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Если многоугольник составлен из нескольких многоугольников, то его площадь равна сумме площадей этих многоугольников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(F)=S(F1)+S(F2)+S(F3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лощадь квадрата равна квадрату его сторон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AutoShape 6"/>
          <p:cNvSpPr/>
          <p:nvPr/>
        </p:nvSpPr>
        <p:spPr>
          <a:xfrm>
            <a:off x="4932360" y="2708280"/>
            <a:ext cx="2808360" cy="1657440"/>
          </a:xfrm>
          <a:prstGeom prst="pentagon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Text Box 7"/>
          <p:cNvSpPr/>
          <p:nvPr/>
        </p:nvSpPr>
        <p:spPr>
          <a:xfrm>
            <a:off x="6659640" y="3860640"/>
            <a:ext cx="53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63416"/>
                </a:solidFill>
                <a:latin typeface="Times New Roman"/>
              </a:rPr>
              <a:t>F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Text Box 8"/>
          <p:cNvSpPr/>
          <p:nvPr/>
        </p:nvSpPr>
        <p:spPr>
          <a:xfrm>
            <a:off x="5435640" y="3500280"/>
            <a:ext cx="53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63416"/>
                </a:solidFill>
                <a:latin typeface="Times New Roman"/>
              </a:rPr>
              <a:t>F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Text Box 9"/>
          <p:cNvSpPr/>
          <p:nvPr/>
        </p:nvSpPr>
        <p:spPr>
          <a:xfrm>
            <a:off x="6012000" y="2852640"/>
            <a:ext cx="63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63416"/>
                </a:solidFill>
                <a:latin typeface="Times New Roman"/>
              </a:rPr>
              <a:t>F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Line 10"/>
          <p:cNvSpPr/>
          <p:nvPr/>
        </p:nvSpPr>
        <p:spPr>
          <a:xfrm>
            <a:off x="4932360" y="3357720"/>
            <a:ext cx="2808360" cy="1440"/>
          </a:xfrm>
          <a:prstGeom prst="line">
            <a:avLst/>
          </a:prstGeom>
          <a:ln w="38160">
            <a:solidFill>
              <a:srgbClr val="4634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Line 11"/>
          <p:cNvSpPr/>
          <p:nvPr/>
        </p:nvSpPr>
        <p:spPr>
          <a:xfrm flipH="1">
            <a:off x="5435640" y="3357720"/>
            <a:ext cx="2278080" cy="1019160"/>
          </a:xfrm>
          <a:prstGeom prst="line">
            <a:avLst/>
          </a:prstGeom>
          <a:ln w="38160">
            <a:solidFill>
              <a:srgbClr val="4634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82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66"/>
                </a:solidFill>
                <a:latin typeface="Arial"/>
              </a:rPr>
              <a:t>Площадь квадрат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89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Площадь квадрата равна квадрату его стороны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Эту формулировку следует понимать так: если сторона квадрата при выбранной единице измерения отрезков выражается числом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, то площадь этого квадрата выражается числом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²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Rectangle 4"/>
          <p:cNvSpPr/>
          <p:nvPr/>
        </p:nvSpPr>
        <p:spPr>
          <a:xfrm>
            <a:off x="4356000" y="4581360"/>
            <a:ext cx="1368360" cy="1152720"/>
          </a:xfrm>
          <a:prstGeom prst="rect">
            <a:avLst/>
          </a:prstGeom>
          <a:solidFill>
            <a:srgbClr val="3399ff"/>
          </a:solidFill>
          <a:ln w="9360">
            <a:solidFill>
              <a:srgbClr val="4634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63416"/>
                </a:solidFill>
                <a:latin typeface="Arial"/>
              </a:rPr>
              <a:t>S=a</a:t>
            </a:r>
            <a:r>
              <a:rPr b="1" lang="en-US" sz="1800" spc="-1" strike="noStrike">
                <a:solidFill>
                  <a:srgbClr val="463416"/>
                </a:solidFill>
                <a:latin typeface="Arial"/>
                <a:ea typeface="Arial"/>
              </a:rPr>
              <a:t>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66"/>
                </a:solidFill>
                <a:latin typeface="Arial"/>
              </a:rPr>
              <a:t>Площадь прямоугольник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лощадь прямоугольника равна произведению его смежных сторон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=a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Rectangle 4"/>
          <p:cNvSpPr/>
          <p:nvPr/>
        </p:nvSpPr>
        <p:spPr>
          <a:xfrm>
            <a:off x="2700360" y="3213000"/>
            <a:ext cx="3456000" cy="17287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66"/>
                </a:solidFill>
                <a:latin typeface="Arial"/>
              </a:rPr>
              <a:t>Площадь параллелограмм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торона параллелограмма называется основанием, а перпендикуляр, проведенный из любой точки противоположной стороны к прямой, содержащей основание, - высотой параллелограмм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лощадь параллелограмма равна произведению его основания на высот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=h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AutoShape 4"/>
          <p:cNvSpPr/>
          <p:nvPr/>
        </p:nvSpPr>
        <p:spPr>
          <a:xfrm>
            <a:off x="3419640" y="3860640"/>
            <a:ext cx="3384360" cy="1079640"/>
          </a:xfrm>
          <a:prstGeom prst="parallelogram">
            <a:avLst>
              <a:gd name="adj" fmla="val 78368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Line 6"/>
          <p:cNvSpPr/>
          <p:nvPr/>
        </p:nvSpPr>
        <p:spPr>
          <a:xfrm>
            <a:off x="4284720" y="3860640"/>
            <a:ext cx="0" cy="1008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82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66"/>
                </a:solidFill>
                <a:latin typeface="Arial"/>
              </a:rPr>
              <a:t>Площадь треугольник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489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дну из сторон треугольника назовем основанием. Если основание выбрано, то под словом «высота» подразумевают высоту треугольника, проведенную к основанию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лощадь треугольника равна половине произведения его основания на высот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½a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AutoShape 4"/>
          <p:cNvSpPr/>
          <p:nvPr/>
        </p:nvSpPr>
        <p:spPr>
          <a:xfrm>
            <a:off x="3635280" y="3716280"/>
            <a:ext cx="2665440" cy="1441440"/>
          </a:xfrm>
          <a:prstGeom prst="triangle">
            <a:avLst>
              <a:gd name="adj" fmla="val 50000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Line 5"/>
          <p:cNvSpPr/>
          <p:nvPr/>
        </p:nvSpPr>
        <p:spPr>
          <a:xfrm>
            <a:off x="4932360" y="3716280"/>
            <a:ext cx="71280" cy="144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3T16:11:14Z</dcterms:created>
  <dc:creator>Liza</dc:creator>
  <dc:description/>
  <dc:language>en-US</dc:language>
  <cp:lastModifiedBy>26526</cp:lastModifiedBy>
  <dcterms:modified xsi:type="dcterms:W3CDTF">2010-05-31T12:16:44Z</dcterms:modified>
  <cp:revision>5</cp:revision>
  <dc:subject/>
  <dc:title>Площадь необъятного пространства</dc:title>
</cp:coreProperties>
</file>